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6.png" ContentType="image/png"/>
  <Override PartName="/ppt/media/image17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7F883-43FA-4522-A1F9-5A096832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11FB63-BB95-4869-A6B3-7B301C45E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F29397-5017-4BA2-AE5D-705BF345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E7F0B-EBCD-4D44-91BB-DCE5B2959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5E4FA-411D-4538-8012-471945EAD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38ABD4-AFA6-44E5-BFC6-AD1B00937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3407E-209C-4DC4-ABC8-2ED5A6AD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CEE14-EDE6-49F5-8664-9CE9EDC0F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56579-340F-4CD5-9E91-D39843526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78042-067F-4904-803A-7AB4851FD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5BBF33-0602-428B-8E99-8BCDFF4B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E7E593-6191-405C-8AED-C3AA21FED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AD2A3-4B84-4798-BB92-9380B184DCB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КС РФ рассмотрит дело о взимании платы за загрязнение окружающей среды"/>
          <p:cNvPicPr/>
          <p:nvPr/>
        </p:nvPicPr>
        <p:blipFill>
          <a:blip r:embed="rId1"/>
          <a:stretch/>
        </p:blipFill>
        <p:spPr>
          <a:xfrm>
            <a:off x="0" y="0"/>
            <a:ext cx="9083520" cy="6870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26960" y="41144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e5e5ff"/>
                </a:solidFill>
                <a:latin typeface="Garamond"/>
              </a:rPr>
              <a:t>Загрязнение окружающей среды, виды, классификации</a:t>
            </a:r>
            <a:endParaRPr b="1" lang="en-US" sz="55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5560" y="685800"/>
          <a:ext cx="8762760" cy="6046920"/>
        </p:xfrm>
        <a:graphic>
          <a:graphicData uri="http://schemas.openxmlformats.org/drawingml/2006/table">
            <a:tbl>
              <a:tblPr/>
              <a:tblGrid>
                <a:gridCol w="1803240"/>
                <a:gridCol w="3763800"/>
                <a:gridCol w="3195720"/>
              </a:tblGrid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19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ценотическое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действия, вызывающие нарушение в составе и структуре популяций живых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ерепромысел, нерегулируемый отлов, отстрел животных, интродукция, акклиматизац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657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ально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деструктив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Стация – место обитания, деструкция – разрушение: воздействие, приводящее к нарушению и преобразованию ландшафтов и экосистем в процессе природопользова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ырубка лесов, эрозия почв, урбанизация, осушение болот, мелиоративные работы, зарегулирование водотоков и п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системному подходу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280" y="990720"/>
          <a:ext cx="8763120" cy="5127480"/>
        </p:xfrm>
        <a:graphic>
          <a:graphicData uri="http://schemas.openxmlformats.org/drawingml/2006/table">
            <a:tbl>
              <a:tblPr/>
              <a:tblGrid>
                <a:gridCol w="2068560"/>
                <a:gridCol w="3498840"/>
                <a:gridCol w="3195720"/>
              </a:tblGrid>
              <a:tr h="79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772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нгредиентн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6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Совокупность веществ, количественно или качественно чуждых естественным биогеоценозам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ые стоки, ядохимикаты, удобрения, продукты сгорания, мусор и т.д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376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араметрическое 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Изменение качественных параметров окружающей природной среды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6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Шумовое, тепловое, световое, радиационное, электромагнитное.</a:t>
                      </a:r>
                      <a:endParaRPr b="0" lang="en-US" sz="2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Непосредственно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i="1" lang="ru-RU" sz="4400" spc="-1" strike="noStrike">
                <a:solidFill>
                  <a:srgbClr val="e5e5ff"/>
                </a:solidFill>
                <a:latin typeface="Garamond"/>
              </a:rPr>
              <a:t>объектами загрязнения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15328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являются основные компоненты экосистем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тмосфер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да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чв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9" name="Picture 2" descr="Фотография Воздух, вода, земля из раздела природа 1549728 - фото.сайт - Photosight.ru"/>
          <p:cNvPicPr/>
          <p:nvPr/>
        </p:nvPicPr>
        <p:blipFill>
          <a:blip r:embed="rId1"/>
          <a:srcRect l="4233" t="5397" r="6163" b="3764"/>
          <a:stretch/>
        </p:blipFill>
        <p:spPr>
          <a:xfrm>
            <a:off x="2362320" y="2274840"/>
            <a:ext cx="678168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посредствованные объекты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320" y="1523520"/>
            <a:ext cx="868680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оставляющие биогеоценоз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стения; животные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рибы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икроорганизм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2" name="Picture 2" descr="&quot;Гриб:это животное или растение?"/>
          <p:cNvPicPr/>
          <p:nvPr/>
        </p:nvPicPr>
        <p:blipFill>
          <a:blip r:embed="rId1"/>
          <a:stretch/>
        </p:blipFill>
        <p:spPr>
          <a:xfrm>
            <a:off x="0" y="3632040"/>
            <a:ext cx="274320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Животные - 824067 на Sibnet"/>
          <p:cNvPicPr/>
          <p:nvPr/>
        </p:nvPicPr>
        <p:blipFill>
          <a:blip r:embed="rId2"/>
          <a:srcRect l="0" t="-283" r="0" b="10387"/>
          <a:stretch/>
        </p:blipFill>
        <p:spPr>
          <a:xfrm>
            <a:off x="3276720" y="2900520"/>
            <a:ext cx="5868720" cy="39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Основные антропогенные загрязнител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ещества, которые выбрасывающие промышленными предприятиям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нефть и нефтепродукт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пестициды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минеральные удобрения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шумы от производств, транспорт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ионизирующее излучение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ибрации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ветло тепловые влия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(энергетические) виды загрязнений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3760" y="167616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Физическим загрязнением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зывают загрязнения, возникающие с изменением физических параметров среды:  тепловых, световых, электромагнитных, акустических, радиационных и др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8" name="Picture 2" descr="Защита жилища и рабочего помещения от шума"/>
          <p:cNvPicPr/>
          <p:nvPr/>
        </p:nvPicPr>
        <p:blipFill>
          <a:blip r:embed="rId1"/>
          <a:stretch/>
        </p:blipFill>
        <p:spPr>
          <a:xfrm>
            <a:off x="4191120" y="3548160"/>
            <a:ext cx="49528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600" y="3808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имером может служить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тепловое загрязнение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, которое является результатом повышения температуры среды в связи с промышленными выбросами теплой воды, потоков нагретого воздуха, дымов, газ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пловое воздействие может быть вторичным, как результат изменения химического состава среды (парниковый эффект), который возникает в результате антропогенного загрязнения воздуха углекислым газом, метаном, фтор-хлоруглеродами, которые пропускают солнечные лучи, но задерживают тепловое излучение поверхности Земли, тем самым, вызывая повышение температуры атмосферы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8169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звитие промышленности приводит 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акус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среды в виде повышения  естественного уровня  шума и отклонения от нормального состояния звуковых характеристик (силы звука, периодичности). Практически любые звуки, возникающие не из природных источников и к которым живые организмы не адаптированы в течение эволюции, рассматриваются как антропогенное шумовое загрязнени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Шум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360" y="12193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это волновое колебание упругой среды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С физической точки зрения шум – это беспорядочное сочетание звуков различной частоты и интенсивности, отрицательно воздействующее на любые живые организмы, но в наибольшей степени на человека, вызывающее повышенную утомляемость, снижение умственной активности, производительности труда, вызывающее соматические и психические заболевания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Уровень шума можно характеризовать интенсивностью звука - и принято измерять в относительных единицах – децибелах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Физико-биологическая адаптация к шуму невозможна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2880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мерные уровни шума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4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Болевые ощущ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3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скаты гр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1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Оркестр поп-музык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Тяжелый грузови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7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Салон легкового автомобил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5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Разговорная речь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10 -20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- Шепот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2-3 дБ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– Зимний лес в безветренную погоду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2/3 жителей Татарстана проживает в очень загрязнённых городах :: KazanFirst - новости Татарстана, Казань, Набережные Челны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514"/>
                </a:solidFill>
                <a:latin typeface="Garamond"/>
              </a:rPr>
              <a:t>Загрязнение окружающей сред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-360" y="4114440"/>
            <a:ext cx="8991720" cy="25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привнесение в среду или возникновение в ней новых  (обычно не характерных для неё) химических, физических, биологических или информационных факторов, или превышение естественного уровня содержания данных факторов в среде, приводящих к негативным последствиям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84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брац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381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ложные колебания в механических системах, которые передаются через грунт и воспринимаются при контакте с вибрирующим телом, при частоте 1 – 100 Гц они воспринимаются как сотрясения.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может измеряться с помощью как абсолютных,  так и относительных велич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бсолютные параметры – вибросмещение, виброскорость, виброускорени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тносительная величина – уровень виброскорости в децибела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94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Основные источники вибрации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40" y="91440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хнологическое оборудование ударного действия (молоты, пресс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ощные энергетические установки (насосы, компрессоры, двигатели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ельсовый транспорт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етрополитен неглубокого залегания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9" name="Picture 4" descr="В верхах: Новости Екатеринбурга: Екатеринбург Он-Лайн"/>
          <p:cNvPicPr/>
          <p:nvPr/>
        </p:nvPicPr>
        <p:blipFill>
          <a:blip r:embed="rId1"/>
          <a:stretch/>
        </p:blipFill>
        <p:spPr>
          <a:xfrm>
            <a:off x="3733920" y="3792600"/>
            <a:ext cx="541008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ибрация распространяется по грунту и достигает фундаментов общественных и жилых зданий, которые могут разрушающе действовать на различные конструкции и сооружения. Однако они затухают в грунте примерно с темпом 1 дБ/мин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1" name="Picture 2" descr="Tatra trams Picture Gallery - Photo Gallery - Images"/>
          <p:cNvPicPr/>
          <p:nvPr/>
        </p:nvPicPr>
        <p:blipFill>
          <a:blip r:embed="rId1"/>
          <a:srcRect l="0" t="7000" r="0" b="21517"/>
          <a:stretch/>
        </p:blipFill>
        <p:spPr>
          <a:xfrm>
            <a:off x="0" y="2678040"/>
            <a:ext cx="9144000" cy="415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9360" y="152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Естественное магнитное поле Земли, напряженность которого увеличивается с широтой, и региональные аномалии этого поля в местах залежей железной руды являю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естественными магнитными полями.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За последние несколько десятилетий сформировался новый фактор окружающей среды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электромагнитные поля  (ЭМП) радичастот антропогенного происхождения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3" name="Picture 2" descr="Магнитное поле Земли. - 25 Декабря 2013 - Blog - Dpogum"/>
          <p:cNvPicPr/>
          <p:nvPr/>
        </p:nvPicPr>
        <p:blipFill>
          <a:blip r:embed="rId1"/>
          <a:stretch/>
        </p:blipFill>
        <p:spPr>
          <a:xfrm>
            <a:off x="4876920" y="3257640"/>
            <a:ext cx="4267080" cy="3600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4" descr="wisaev: Поменяются ли Полюса Земли?"/>
          <p:cNvPicPr/>
          <p:nvPr/>
        </p:nvPicPr>
        <p:blipFill>
          <a:blip r:embed="rId2"/>
          <a:stretch/>
        </p:blipFill>
        <p:spPr>
          <a:xfrm>
            <a:off x="0" y="3249720"/>
            <a:ext cx="44956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источники электромагнитных полей радиочастот</a:t>
            </a: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0160" y="1371600"/>
            <a:ext cx="50850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радиотехнические объекты (РТО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елевизионные и радиолокационные станции (РЛС)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термические цех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которые технологические установк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05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2" descr="Природные источники электромагнитных полей"/>
          <p:cNvPicPr/>
          <p:nvPr/>
        </p:nvPicPr>
        <p:blipFill>
          <a:blip r:embed="rId1"/>
          <a:stretch/>
        </p:blipFill>
        <p:spPr>
          <a:xfrm>
            <a:off x="5181480" y="1317600"/>
            <a:ext cx="39625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52280" y="15228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апряженность ЭМП возрастает особенно резко вблизи ЛЭП, радио- и телестанций, средств радиолокации и радиосвязи ( в том числе мобильной и спутниковой), различных энергетических и энергоемких установок, термических цехов и участков (зонах, примыкающих к промышленным предприятиям), городского транспорт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2" descr="Сбор электроэнергии из окружающей средыАгрегатор IT новостей Crowler-pcworld Агрегатор IT новостей Crowler-pcworld"/>
          <p:cNvPicPr/>
          <p:nvPr/>
        </p:nvPicPr>
        <p:blipFill>
          <a:blip r:embed="rId1"/>
          <a:stretch/>
        </p:blipFill>
        <p:spPr>
          <a:xfrm>
            <a:off x="3809880" y="3289320"/>
            <a:ext cx="5334120" cy="35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ацион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1277640"/>
            <a:ext cx="8686800" cy="481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 результате действия ионизирующей радиации (излучения), а радиоактивное – в результате превышения уровня естественного содержания радиоактивных веществ в окружающей среде. Радиационное и радиоактивное загрязнения вызывают превышение                                                                  радиационного фона                                                    Земли, к которому все                                                   живые организмы                                         адаптированы                                                                   в ходе эволюции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2" name="Picture 2" descr="Радиация и здоровье человека - Фото 13013/9"/>
          <p:cNvPicPr/>
          <p:nvPr/>
        </p:nvPicPr>
        <p:blipFill>
          <a:blip r:embed="rId1"/>
          <a:stretch/>
        </p:blipFill>
        <p:spPr>
          <a:xfrm>
            <a:off x="4191120" y="3540240"/>
            <a:ext cx="4952880" cy="32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457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ревышение нормативов может вызвать серьезные изменения в окружающей среде и организме человека. Наиболее опасным последствием радиационного загрязнения является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мутагенный эффект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Мутации передаются в поколениях и могут вызвать стойкие изменения в биосфер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4" name="Picture 2" descr="Техника кармических влияний. Продолжение"/>
          <p:cNvPicPr/>
          <p:nvPr/>
        </p:nvPicPr>
        <p:blipFill>
          <a:blip r:embed="rId1"/>
          <a:srcRect l="0" t="0" r="0" b="11303"/>
          <a:stretch/>
        </p:blipFill>
        <p:spPr>
          <a:xfrm>
            <a:off x="4343400" y="3638520"/>
            <a:ext cx="4800600" cy="3200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4" descr="СОТВОРЕНИЕ ИЛИ ИСТОРИЧЕСКАЯ ЭВОЛЮЦИЯ. - Страница 79"/>
          <p:cNvPicPr/>
          <p:nvPr/>
        </p:nvPicPr>
        <p:blipFill>
          <a:blip r:embed="rId2"/>
          <a:srcRect l="5732" t="0" r="0" b="0"/>
          <a:stretch/>
        </p:blipFill>
        <p:spPr>
          <a:xfrm>
            <a:off x="-1440" y="3638520"/>
            <a:ext cx="4054320" cy="32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онизирующее излуч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86868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это вид излучения, взаимодействие которого со средой  приводит к образованию ионов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8" name="Picture 4" descr="Два основных типа радиации Излучение Частиц -Альфа частицы Бета частицы Электромагнитное излучение Радиоволны Микроволны Ультраф"/>
          <p:cNvPicPr/>
          <p:nvPr/>
        </p:nvPicPr>
        <p:blipFill>
          <a:blip r:embed="rId1"/>
          <a:stretch/>
        </p:blipFill>
        <p:spPr>
          <a:xfrm>
            <a:off x="914400" y="2324160"/>
            <a:ext cx="7543800" cy="45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α- частицы – ядра гелия, несущие два элементарных положительных заряда, представляют главную опасность при попадании радионуклидов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1" name="Picture 2" descr="http://fr.novopress.info/wp-content/uploads/2012/05/Radio-activit%C3%A9.jpg"/>
          <p:cNvPicPr/>
          <p:nvPr/>
        </p:nvPicPr>
        <p:blipFill>
          <a:blip r:embed="rId1"/>
          <a:stretch/>
        </p:blipFill>
        <p:spPr>
          <a:xfrm>
            <a:off x="1219320" y="2422440"/>
            <a:ext cx="6476760" cy="44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Классификация по причине загрязнения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685800"/>
          <a:ext cx="9144000" cy="6172200"/>
        </p:xfrm>
        <a:graphic>
          <a:graphicData uri="http://schemas.openxmlformats.org/drawingml/2006/table">
            <a:tbl>
              <a:tblPr/>
              <a:tblGrid>
                <a:gridCol w="798480"/>
                <a:gridCol w="1768680"/>
                <a:gridCol w="2806560"/>
                <a:gridCol w="3770280"/>
              </a:tblGrid>
              <a:tr h="7318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Характеристика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                  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329220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 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   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Естеств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Возникает в результате природных процессов, катастрофических причин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ьные бури, вулканический пепел, пожары от молний, продукты выветривания, морская и космическая пыль, разложение организмов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292644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Антроп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мыш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ленн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озникают в результате деятельности человека, в т. ч. их прямого или косвенного влияния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Энергетика, металлургия, химическая, нефтяная промышленность, цементная промышленность и др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73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ытов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топление, транспорт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1920" y="685800"/>
            <a:ext cx="8991720" cy="266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β- частицы – ядерные частицы, близкие по физической природе к электронам, возникают при радиоактивном распаде и сразу же излучаются, опасны в основном при попадании радионуклидов на кожные покровы и внутрь организма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4" name="Picture 2" descr="1.4 Радиоактивность и ядерная энергия Науколандия"/>
          <p:cNvPicPr/>
          <p:nvPr/>
        </p:nvPicPr>
        <p:blipFill>
          <a:blip r:embed="rId1"/>
          <a:stretch/>
        </p:blipFill>
        <p:spPr>
          <a:xfrm>
            <a:off x="0" y="2895480"/>
            <a:ext cx="9144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51920" y="7617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γ  - кванты – самые коротковолновые электромагнитные излучения, которые образуются в ходе ядерных реакций и при распаде осколков деления, близки к рентгеновским лучам, но имеют более короткую длину волны, опасны при любой форме воздействия;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2" descr="Alpha Beta Gamma Radiation Symbols"/>
          <p:cNvPicPr/>
          <p:nvPr/>
        </p:nvPicPr>
        <p:blipFill>
          <a:blip r:embed="rId1"/>
          <a:stretch/>
        </p:blipFill>
        <p:spPr>
          <a:xfrm>
            <a:off x="4572000" y="2525760"/>
            <a:ext cx="4572000" cy="433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91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e5e5ff"/>
                </a:solidFill>
                <a:latin typeface="Garamond"/>
              </a:rPr>
              <a:t>Основные виды ионизирующих излучений:</a:t>
            </a:r>
            <a:br>
              <a:rPr sz="3300"/>
            </a:br>
            <a:endParaRPr b="1" lang="en-US" sz="33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899172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2600" spc="-1" strike="noStrike">
                <a:solidFill>
                  <a:srgbClr val="ffffff"/>
                </a:solidFill>
                <a:latin typeface="Garamond"/>
              </a:rPr>
              <a:t>- нейтроны – вылетают из ядер атомов при реакциях деления и синтеза, проникают в биоткань на большую глубину, с нейтронным потоком можно встретиться только при ядерном взрыве или работающем ядерном реакторе, он не возникает при радиоактивном распаде.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0" name="Picture 2" descr="NRC: Radiation Basics"/>
          <p:cNvPicPr/>
          <p:nvPr/>
        </p:nvPicPr>
        <p:blipFill>
          <a:blip r:embed="rId1"/>
          <a:stretch/>
        </p:blipFill>
        <p:spPr>
          <a:xfrm>
            <a:off x="1219320" y="3200400"/>
            <a:ext cx="673092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диоактивность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320" y="1218960"/>
            <a:ext cx="8686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8000"/>
          </a:bodyPr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–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амопроизвольное превращение неустойчивого нуклида в другой нуклид, сопровождающееся испусканием ионизирующих излучений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Главной характеристикой степени опасности является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доза излуч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233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3" name="Picture 2" descr="Физические основы. Радиоактивность деления"/>
          <p:cNvPicPr/>
          <p:nvPr/>
        </p:nvPicPr>
        <p:blipFill>
          <a:blip r:embed="rId1"/>
          <a:stretch/>
        </p:blipFill>
        <p:spPr>
          <a:xfrm>
            <a:off x="4114800" y="3086280"/>
            <a:ext cx="5029200" cy="37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152280" y="3808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спозиционная доза – 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количество γ – излучения. Экспозиционная доза характеризует потенциальную опасность γ -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Поглощенная доза –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количество энергии любого вида излучения, поглощенное в единице массы вещества. Это физическая доза излучения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291600" indent="-291600"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ffffff"/>
                </a:solidFill>
                <a:latin typeface="Garamond"/>
              </a:rPr>
              <a:t>Эквивалентная доза</a:t>
            </a: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 – количество энергии любого вида излучения, поглощенное в единице массы вещества с учетом качества излучения. Эта доза не может быть измерена, а должна быть рассчитан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228600" y="22860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Фоновое радиоактивное излуче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складывается из 3 групп факторов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6" name="Схема 1" descr=""/>
          <p:cNvPicPr/>
          <p:nvPr/>
        </p:nvPicPr>
        <p:blipFill>
          <a:blip r:embed="rId1"/>
          <a:stretch/>
        </p:blipFill>
        <p:spPr>
          <a:xfrm>
            <a:off x="-6480" y="1298520"/>
            <a:ext cx="9163080" cy="555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логическое загрязнение ОС подразделяется на биотическое и (биогенное) и микробное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81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К 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биотическому загрязнению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тносят распространение в окружающей среде биогенных веществ – выделений сельскохозяйственных животных с ферм и индивидуальных хозяйств, выбросов предприятий, производящих определенные виды продовольствия (мясокомбинатов, молокозаводов, пивзаводов, предприятий микробиологического синтеза (БВК)), предприятий, производящих антибиотики, а также загрязнение трупами животных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ое загрязнение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Биотическое загрязнений может привести и часто приводит к нарушению процессов самоочищения воды и почвы, вторгаясь в естественный круговорот веществ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1" name="Picture 2" descr="Live and let live - WPP - 2010"/>
          <p:cNvPicPr/>
          <p:nvPr/>
        </p:nvPicPr>
        <p:blipFill>
          <a:blip r:embed="rId1"/>
          <a:stretch/>
        </p:blipFill>
        <p:spPr>
          <a:xfrm>
            <a:off x="2362320" y="2527200"/>
            <a:ext cx="678312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кробное загрязнен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озникает вследствие массового размножения микроорганизмов в антропогенных субстратах или в средах, измененных в ходе хозяйственной деятельности человека. В результате изменения субстратов ранее безвредные микроорганизмы могут приобретать патогенные свойства или                                                  способность подавлять                                                         другие микроорганизмы                                                       в сообществах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4" name="Picture 2" descr="32 современных технологических достижения, которые изменят наше будущее. Часть 3 - Курилка"/>
          <p:cNvPicPr/>
          <p:nvPr/>
        </p:nvPicPr>
        <p:blipFill>
          <a:blip r:embed="rId1"/>
          <a:stretch/>
        </p:blipFill>
        <p:spPr>
          <a:xfrm>
            <a:off x="5486400" y="3548160"/>
            <a:ext cx="3693960" cy="33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видов загрязнения окружающей среды (ОС)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-360" y="1371240"/>
            <a:ext cx="8915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физико-химическим параметрам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механические, физические (энергетические), химические и биологически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воздействию на компоненты ОС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выбросы в атмосферу, твердые отходы и сточные воды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токсич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токсичные и нетоксичные);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массе или концентраци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образующихся загрязняющих веществ (малотоннажные и крупнотоннажные, концентрированные и разбавленные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по реакционной способности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(химически активные и инертные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153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e5e5ff"/>
                </a:solidFill>
                <a:latin typeface="Garamond"/>
              </a:rPr>
              <a:t>Классификация загрязнений ОС по физико-химическим параметрам</a:t>
            </a:r>
            <a:br>
              <a:rPr sz="3500"/>
            </a:br>
            <a:endParaRPr b="1" lang="en-US" sz="35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0" y="1219320"/>
          <a:ext cx="8915400" cy="5646600"/>
        </p:xfrm>
        <a:graphic>
          <a:graphicData uri="http://schemas.openxmlformats.org/drawingml/2006/table">
            <a:tbl>
              <a:tblPr/>
              <a:tblGrid>
                <a:gridCol w="2228760"/>
                <a:gridCol w="2229120"/>
                <a:gridCol w="2400120"/>
                <a:gridCol w="2057400"/>
              </a:tblGrid>
              <a:tr h="366120">
                <a:tc gridSpan="4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Загрязнения ОС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Механ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Хим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 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Физическо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(энергетическое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Биологическое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4389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ылевые частицы в атмосфере; твердые частицы, различные предметы в воде и почв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Газообразные, жидкие и твердые химические соединения и элементы, вступающие в реакцию с компонентами ОС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Тепло, шум, вибрации, ультразвук, видимые инфракрасные и УФ части спектра, электромагнитные поля, ионизирующие излучения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Виды организмов, появившиеся при участие человека и наносящие вред ему самому и живой природе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из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изменения тепловых, электрических, радиационных, световых полей в естественной среде, шумы, вибрации, гравитационные силы, вызванные человеком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3" name="Picture 2" descr="http://img-2003-12.photosight.ru/04/359962.jpg"/>
          <p:cNvPicPr/>
          <p:nvPr/>
        </p:nvPicPr>
        <p:blipFill>
          <a:blip r:embed="rId1"/>
          <a:stretch/>
        </p:blipFill>
        <p:spPr>
          <a:xfrm>
            <a:off x="3429000" y="2592360"/>
            <a:ext cx="571176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ехан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1920" y="1523880"/>
            <a:ext cx="35816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это разные твердые частицы и предметы (выброшенные как непригодные, сработанные, изъятые из потребления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6" name="Picture 2" descr="Выносить мусор опасно Культура и Наука E-News: новости Украины и Мира"/>
          <p:cNvPicPr/>
          <p:nvPr/>
        </p:nvPicPr>
        <p:blipFill>
          <a:blip r:embed="rId1"/>
          <a:stretch/>
        </p:blipFill>
        <p:spPr>
          <a:xfrm>
            <a:off x="3733920" y="1336680"/>
            <a:ext cx="541008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Хим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тверди, газообразные и жидкие вещества, химические элементы и соединения искусственного происхождения, которые поступают, - в биосферу, в нарушение установлены природой процессы круговорота веществ и энерг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9" name="Picture 2" descr="Pollution Oilfield Mobile News"/>
          <p:cNvPicPr/>
          <p:nvPr/>
        </p:nvPicPr>
        <p:blipFill>
          <a:blip r:embed="rId1"/>
          <a:stretch/>
        </p:blipFill>
        <p:spPr>
          <a:xfrm>
            <a:off x="3255840" y="2890800"/>
            <a:ext cx="58770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загрязнения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-360" y="11430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разные организмы, которые появились благодаря жизнедеятельности человечества, - бактериологическое оружие, новые вирусы (возбудители ВИЧ, болезни легионеров, эпидемий, других болезней, а также катастрофическое размножение                                        растений или животных,                                   переселенных из одной среды                                           в другое человеком                                                          или случайно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2" name="Picture 2" descr="Появился неуязвимый компьютерный вирус / Новости software / 3DNews - Daily Digital Digest"/>
          <p:cNvPicPr/>
          <p:nvPr/>
        </p:nvPicPr>
        <p:blipFill>
          <a:blip r:embed="rId1"/>
          <a:stretch/>
        </p:blipFill>
        <p:spPr>
          <a:xfrm>
            <a:off x="5257800" y="2938320"/>
            <a:ext cx="3886200" cy="39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ксана</cp:lastModifiedBy>
  <dcterms:modified xsi:type="dcterms:W3CDTF">2014-09-13T13:14:45Z</dcterms:modified>
  <cp:revision>4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